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7B4-31F4-422A-A619-639D7BC3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5CB-D2C9-4A24-AE22-2DA7DD99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217-8052-4F8B-943C-0C64853C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5D6C-88F4-4B02-81C8-538AF81A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91BB-35A1-4B17-AF38-3B462FD8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01AC-F64B-42B8-89BE-0D4D50D0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D315-902B-48B3-A951-C94E2757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56ED-4F7C-4E65-800B-CE14EC87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BE33-83BA-4116-8540-3720A600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6342-4A11-48A7-BFAC-B20BFFD2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4E72-69AE-4E25-A2BB-1218DF74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14D-F643-4AD6-91AE-FF977AFE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B371-762A-4044-93A9-3BF495C7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BB1E-B14B-4C42-8E7B-7516DEA9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D13F-AEFF-4FD8-8CE9-FC545F88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0B7D-76EF-41F5-8EA2-86848BB7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E2AE-4199-4535-AC30-C81425AD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F138-AC3F-4F99-AEC1-72EF357E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56B4E-1691-4F14-8C26-19D78145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FEC99-33C4-44DE-B418-E805CCC8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CC7B0-A42E-46A9-8E64-0DFEEB64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3465E-C506-4960-A095-15DD4BAB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AA6B-C024-4E71-B134-7D46BA21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4B50-2639-43E7-B09C-E0C84DFE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0CBBF-A68E-4E76-B68C-1983F5B1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0179E-68B1-42A0-8888-5895ACA6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CC94E-866F-44CB-ABC0-8E4661F1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28D41-4C9F-4DA2-ADB5-950BA586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BC2A3-17C0-439A-B5F8-7E075BEB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CD1AD-E491-4D54-9674-3D863A1D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FFAEA-3560-4336-8799-A3D19FD2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2866F-A445-4DB1-85A4-B9A05188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58789-6B1E-4511-8F36-EEF31FF6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06D-63E7-4209-89A4-357352C5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AD281-B19D-41E7-8D59-205685DC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FDA65-368E-4753-89FB-3D40F37A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D5DF5-DA18-4334-B5C6-4DB94A70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E08DC-6E13-42CD-9471-1CBE31D0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17F77-B098-4577-80E1-EBD4B61B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4580F-5B71-4F67-ABB1-2F0B8EB9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F9D65-69ED-4F12-A0E3-E7D29F09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3CB9D-A903-4EFD-9D66-6FCB867E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D87AA-F812-437E-BBD6-3B32B176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2FB-D606-42F8-BC68-A71B1CF6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C0D-33AA-4601-995F-ABD13D0F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99B-5D02-4912-A2C8-0551570F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EB94-5603-4D21-8EA9-A1BEA169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D58-3E62-4858-95C1-E31E0DC5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CD74-A459-44B6-90B3-B396328F81F7}" type="slidenum">
              <a:rPr b="0" lang="en-U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F7C9-6056-40EF-ACED-9B70584FA651}" type="slidenum">
              <a:rPr b="0" lang="en-U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FDB4-C5FC-42AD-A32A-289A7C8F4983}" type="slidenum">
              <a:rPr b="0" lang="en-U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A964-3BEF-484B-8DF4-ADFEDC87E63D}" type="slidenum">
              <a:rPr b="0" lang="en-U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85920"/>
            <a:ext cx="8547120" cy="19447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"/>
          <p:cNvSpPr/>
          <p:nvPr/>
        </p:nvSpPr>
        <p:spPr>
          <a:xfrm>
            <a:off x="1295280" y="34290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hapter 23 and Chapter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"/>
          <p:cNvSpPr/>
          <p:nvPr/>
        </p:nvSpPr>
        <p:spPr>
          <a:xfrm>
            <a:off x="609480" y="1523880"/>
            <a:ext cx="7925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ross Domestic Product (GD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the sum of the money values of all final goods and services produced in the domestic economy during a specific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s: organized and reported market activity, “bad produ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NOT a measure of the nation’s well-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es not include: leisure time, ecological costs, intermediate goods, illegal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minal GDP: inflation distorts the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 GDP: more accurate because inflation has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2362320" y="2286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GDP Defin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tle 1"/>
          <p:cNvSpPr/>
          <p:nvPr/>
        </p:nvSpPr>
        <p:spPr>
          <a:xfrm>
            <a:off x="-152280" y="0"/>
            <a:ext cx="1904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tle 1"/>
          <p:cNvSpPr/>
          <p:nvPr/>
        </p:nvSpPr>
        <p:spPr>
          <a:xfrm>
            <a:off x="0" y="0"/>
            <a:ext cx="190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1523880" y="22860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Shifts in AD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533520" y="1523880"/>
            <a:ext cx="792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ggregate Demand Cur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the AD curve shifts right (AD increases), Price Levels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the AD curve shifts left (AD decreases),Price Levels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www.bized.co.uk/virtual/bank/images/asvert.gif"/>
          <p:cNvPicPr/>
          <p:nvPr/>
        </p:nvPicPr>
        <p:blipFill>
          <a:blip r:embed="rId1"/>
          <a:stretch/>
        </p:blipFill>
        <p:spPr>
          <a:xfrm>
            <a:off x="2590920" y="3886200"/>
            <a:ext cx="30956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tle 1"/>
          <p:cNvSpPr/>
          <p:nvPr/>
        </p:nvSpPr>
        <p:spPr>
          <a:xfrm>
            <a:off x="0" y="0"/>
            <a:ext cx="190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0" y="420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Keynesian or Stabilization to Fight Inf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380880" y="1752480"/>
            <a:ext cx="8458200" cy="52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tabilization policy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programs used by the government to prevent or at least reduce recessions and control inf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fight infl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vernment can decrease spending (G) to decrease 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increase taxes so people have less disposable income and AD fa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decrease transfer payments, which would be taking away some of the income and bringing dow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1"/>
          <p:cNvSpPr/>
          <p:nvPr/>
        </p:nvSpPr>
        <p:spPr>
          <a:xfrm>
            <a:off x="0" y="0"/>
            <a:ext cx="190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"/>
          <p:cNvSpPr/>
          <p:nvPr/>
        </p:nvSpPr>
        <p:spPr>
          <a:xfrm>
            <a:off x="0" y="53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tagf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762120" y="1371600"/>
            <a:ext cx="7696080" cy="51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nstantia"/>
              </a:rPr>
              <a:t>Stagflation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 is inflation that occurs while the economy is growing slow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tagflation comes from supply-side shock or excessive demand and an inflationary g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When GDP falls and prices rise (inflation), stagflation occu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Most notably occurred 1973-1980 with the O.P.E.C cri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tle 1"/>
          <p:cNvSpPr/>
          <p:nvPr/>
        </p:nvSpPr>
        <p:spPr>
          <a:xfrm>
            <a:off x="0" y="0"/>
            <a:ext cx="190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ffect of Steep AS Cu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380880" y="1371600"/>
            <a:ext cx="8458200" cy="60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When the AS curve is in the vertical rang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trong economic activity, high levels of outp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low unemployment, high capacity uti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n the vertical range, to increase production, costs will rise considerably because resources and labor are sca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f production rises, we will have a relatively big </a:t>
            </a:r>
            <a:r>
              <a:rPr b="0" lang="en-US" sz="3000" spc="-1" strike="noStrike">
                <a:solidFill>
                  <a:srgbClr val="ff0000"/>
                </a:solidFill>
                <a:latin typeface="Constantia"/>
              </a:rPr>
              <a:t>increase in Pric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tle 1"/>
          <p:cNvSpPr/>
          <p:nvPr/>
        </p:nvSpPr>
        <p:spPr>
          <a:xfrm>
            <a:off x="0" y="0"/>
            <a:ext cx="190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otential G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914400" y="1066680"/>
            <a:ext cx="777240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at the real GDP would be if the economy was at full employment, with resources and labor fully uti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f economy is below PGDP there is a rec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f economy is above PGDP there is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http://econ.la.psu.edu/~dshapiro/l16_f02.jpg"/>
          <p:cNvPicPr/>
          <p:nvPr/>
        </p:nvPicPr>
        <p:blipFill>
          <a:blip r:embed="rId1"/>
          <a:stretch/>
        </p:blipFill>
        <p:spPr>
          <a:xfrm>
            <a:off x="2895480" y="3533760"/>
            <a:ext cx="25909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tle 1"/>
          <p:cNvSpPr/>
          <p:nvPr/>
        </p:nvSpPr>
        <p:spPr>
          <a:xfrm>
            <a:off x="0" y="0"/>
            <a:ext cx="190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Best Way to Measure Inf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0" y="1371600"/>
            <a:ext cx="91440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etween CPI (Consumer Price Index) and GDP Deflato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DP deflator is a better indication of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s is because the GDP deflator is based on a broader market basket (including every item in the G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CPI is based on a budget of a typical urban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ice Index in Given Year=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(Cost of Market Basket in Given Yea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x 10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(Cost of Market Basket in Base 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0" y="4800600"/>
            <a:ext cx="914400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al GDP 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Nominal GDP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x 10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DP Defl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tle 1"/>
          <p:cNvSpPr/>
          <p:nvPr/>
        </p:nvSpPr>
        <p:spPr>
          <a:xfrm>
            <a:off x="0" y="0"/>
            <a:ext cx="190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Wage Trends in the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762120" y="2057400"/>
            <a:ext cx="7696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en prices rise wages will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uring inflation wages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en prices drop, wages decrease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 Generally wages rise faster than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5:58:11Z</dcterms:created>
  <dc:creator>sth_user</dc:creator>
  <dc:description/>
  <dc:language>en-US</dc:language>
  <cp:lastModifiedBy>HP Authorized Customer</cp:lastModifiedBy>
  <dcterms:modified xsi:type="dcterms:W3CDTF">2009-01-27T22:02:38Z</dcterms:modified>
  <cp:revision>16</cp:revision>
  <dc:subject/>
  <dc:title>Unit 2</dc:title>
</cp:coreProperties>
</file>